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D5C0-94DE-4911-891A-D50D1FC1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0D98-7B6B-43BA-ABE7-1A69E40E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6FF7-0EA3-496A-8B4E-B7694EA7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2B00-B69B-45BA-9F1C-ED4C401B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0BC5-AB48-448D-95B2-E9D52226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BF08-6B1D-42A1-9EBB-C7C92016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50A9-A5BF-4CC4-98A9-DDAF07FE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97EB-4B8D-443F-934B-C5491CF1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FCC7-BA13-4792-8CCF-710C21EC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F3A4-20D3-40D1-AC3C-492F56A7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A5CD-F5A0-4264-B5F0-36E20D50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2B8D-7EF0-44A0-B6BB-7B46AAE0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F323-E74B-48CF-80B1-1D8A7251B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eb.mit.edu/invent/iow/hulahoop.htm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84080" y="29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5029200"/>
            <a:ext cx="2743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Handwriting"/>
              </a:rPr>
              <a:t>Meliss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Handwriting"/>
              </a:rPr>
              <a:t>5/11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Handwriting"/>
              </a:rPr>
              <a:t>11/11Computer #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Handwriting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09480" y="2666880"/>
            <a:ext cx="4572000" cy="1371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Hula Hoop</a:t>
            </a:r>
            <a:endParaRPr b="0" lang="en-US" sz="6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733920" y="0"/>
            <a:ext cx="2871720" cy="3200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97180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867280" y="37339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Handwriting"/>
              </a:rPr>
              <a:t>Invented: by Rich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Knerr and Spud Me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245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Hoop girl"/>
          <p:cNvPicPr/>
          <p:nvPr/>
        </p:nvPicPr>
        <p:blipFill>
          <a:blip r:embed="rId1"/>
          <a:stretch/>
        </p:blipFill>
        <p:spPr>
          <a:xfrm>
            <a:off x="4048200" y="0"/>
            <a:ext cx="50958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2743200"/>
            <a:ext cx="3733920" cy="15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Handwriting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Handwriting"/>
              </a:rPr>
              <a:t>Richard Knerr</a:t>
            </a:r>
            <a:r>
              <a:rPr b="0" lang="en-US" sz="1800" spc="-1" strike="noStrike">
                <a:solidFill>
                  <a:srgbClr val="000000"/>
                </a:solidFill>
                <a:latin typeface="Lucida Handwriting"/>
              </a:rPr>
              <a:t>, 5/16/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Handwriting"/>
                <a:hlinkClick r:id="rId2"/>
              </a:rPr>
              <a:t>http://web.mit.edu/invent/iow/hulahoop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Hula H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For adults, hoops twirling has at times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Reccomended as a weight loss mea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The hula hoop whose name came from the Hawaiian dace it’s users seemed to imitate was market nationw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Children around the world  with hoops have been throwing and twirling on their waist and lim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These hoops were once made of vines or other plants, wood, or me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Wham-O sold 25 million hula hoops in 2 months.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Handwriting"/>
              </a:rPr>
              <a:t>Richard Knerr &amp; Spud Me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Children around the world have always played with hoo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Richard Knerr &amp; Arthur “spud” Melin were founders of the wham-O comp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Australian children twirled bamboo hoops around their waist in gym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Knerr &amp; Melin saw how popular such a toy can 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Richard Knerr was ready with another bombshell that year he had discovered “Frisbe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7:56:40Z</dcterms:created>
  <dc:creator>install</dc:creator>
  <dc:description/>
  <dc:language>en-US</dc:language>
  <cp:lastModifiedBy>install</cp:lastModifiedBy>
  <dcterms:modified xsi:type="dcterms:W3CDTF">2011-06-01T17:37:57Z</dcterms:modified>
  <cp:revision>6</cp:revision>
  <dc:subject/>
  <dc:title>Slide 1</dc:title>
</cp:coreProperties>
</file>